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6.gif" ContentType="image/gif"/>
  <Override PartName="/ppt/media/image7.jpeg" ContentType="image/jpeg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38E3-C3FA-499F-A23A-DC93D6E0E1AB}" type="slidenum">
              <a:rPr b="0" lang="ro-R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2844-ECD7-42C6-95C4-15EC1D99655C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C487-9965-48C7-BD45-26989FC4C8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AB9D-EDC1-415D-8FEE-7B24A23E0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9A0F-5743-426F-BFE9-EF000129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AEA9-A0B6-4A29-8DB7-C1B8A5C20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1EA3-F65D-46FD-8910-161807A55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19DB-02FE-40E1-B705-271AE07D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06BC-AF24-4CD2-BE10-258735CD5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EF93-17FC-45D2-A68E-4E96D9B7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5D3D-3381-43F4-9508-FE297139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814F-ED25-46D8-B085-A56A6EAC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C546-9FB2-44DC-B17F-B41ABAB1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7822-0837-43C1-A8A7-F31D3DE5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6AA9-DF5F-45A9-A61F-7CFC95AF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C683-21BF-4447-8066-0521646D5964}" type="slidenum">
              <a:rPr b="0" lang="ro-RO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întâlnim fracţii în viaţa de zi cu z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WordArt 7" descr=""/>
          <p:cNvPicPr/>
          <p:nvPr/>
        </p:nvPicPr>
        <p:blipFill>
          <a:blip r:embed="rId1"/>
          <a:stretch/>
        </p:blipFill>
        <p:spPr>
          <a:xfrm>
            <a:off x="573120" y="1494000"/>
            <a:ext cx="8021520" cy="21142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Calibri"/>
              </a:rPr>
              <a:t>Întrebările unitatăţii de învăţar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Rectangle 1"/>
          <p:cNvSpPr/>
          <p:nvPr/>
        </p:nvSpPr>
        <p:spPr>
          <a:xfrm>
            <a:off x="142920" y="2358360"/>
            <a:ext cx="87868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De ce trebuie să cunoaştem noţiunea de fracţie?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Cum ne ajută folosirea acestor noţiuni în rezolvarea problemelor cu conţinut practic?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ff"/>
                </a:solidFill>
                <a:latin typeface="Calibri"/>
              </a:rPr>
              <a:t>TO</a:t>
            </a: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RTUL SILVIEI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2268360" y="1700280"/>
            <a:ext cx="540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714240" y="1143000"/>
            <a:ext cx="777744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ilvia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a dorit să-i facă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ratelui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o surpriză de ziua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ui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şi să-i pregătească prăjitura preferată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Deoarece s-ar putea să vină şi musafiri fetiţa şi-a dat seama că reţeta trebuie să fie dublată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Ingredientele din reţeta mamei erau acestea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2214720" y="300024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900000" y="2852640"/>
            <a:ext cx="7272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can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ă de zahă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kg. de f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ăină grâu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1şi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/8 pahar ule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 ou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l lap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1071720" y="535788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ide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ţi să o ajutăm să pregătească în mod corect toate cantităţile 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2411280" y="5661000"/>
            <a:ext cx="43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572080" y="2786040"/>
            <a:ext cx="2957400" cy="2214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500"/>
                            </p:stCondLst>
                            <p:childTnLst>
                              <p:par>
                                <p:cTn id="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500"/>
                            </p:stCondLst>
                            <p:childTnLst>
                              <p:par>
                                <p:cTn id="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500"/>
                            </p:stCondLst>
                            <p:childTnLst>
                              <p:par>
                                <p:cTn id="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7500"/>
                            </p:stCondLst>
                            <p:childTnLst>
                              <p:par>
                                <p:cTn id="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8500"/>
                            </p:stCondLst>
                            <p:childTnLst>
                              <p:par>
                                <p:cTn id="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9500"/>
                            </p:stCondLst>
                            <p:childTnLst>
                              <p:par>
                                <p:cTn id="72" nodeType="after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360" y="2676240"/>
            <a:ext cx="360" cy="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1" name="Object 3"/>
              <p:cNvSpPr txBox="1"/>
              <p:nvPr/>
            </p:nvSpPr>
            <p:spPr>
              <a:xfrm>
                <a:off x="9029880" y="256716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-360" y="4979520"/>
            <a:ext cx="360" cy="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3" name="Object 5"/>
              <p:cNvSpPr txBox="1"/>
              <p:nvPr/>
            </p:nvSpPr>
            <p:spPr>
              <a:xfrm>
                <a:off x="8004240" y="3903840"/>
                <a:ext cx="1139760" cy="21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5" name="Rectangle 30"/>
          <p:cNvSpPr/>
          <p:nvPr/>
        </p:nvSpPr>
        <p:spPr>
          <a:xfrm>
            <a:off x="7920" y="4584240"/>
            <a:ext cx="217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7"/>
              <p:cNvSpPr txBox="1"/>
              <p:nvPr/>
            </p:nvSpPr>
            <p:spPr>
              <a:xfrm>
                <a:off x="755640" y="333360"/>
                <a:ext cx="7129440" cy="561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ană</m:t>
                        </m:r>
                        <m:r>
                          <m:rPr>
                            <m:lit/>
                            <m:nor/>
                          </m:rPr>
                          <m:t xml:space="preserve">zahă</m:t>
                        </m:r>
                        <m:r>
                          <m:t xml:space="preserve">r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1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litri  </m:t>
                        </m:r>
                        <m:r>
                          <m:rPr>
                            <m:lit/>
                            <m:nor/>
                          </m:rPr>
                          <m:t xml:space="preserve">lapte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" name="Text Box 32"/>
          <p:cNvSpPr/>
          <p:nvPr/>
        </p:nvSpPr>
        <p:spPr>
          <a:xfrm>
            <a:off x="3132000" y="19162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Kg </a:t>
            </a:r>
            <a:r>
              <a:rPr b="0" i="1" lang="ro-RO" sz="2800" spc="-1" strike="noStrike">
                <a:solidFill>
                  <a:srgbClr val="000000"/>
                </a:solidFill>
                <a:latin typeface="Verdana"/>
              </a:rPr>
              <a:t>făin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Text Box 33"/>
          <p:cNvSpPr/>
          <p:nvPr/>
        </p:nvSpPr>
        <p:spPr>
          <a:xfrm>
            <a:off x="7885080" y="3068640"/>
            <a:ext cx="125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000000"/>
                </a:solidFill>
                <a:latin typeface="Verdana"/>
              </a:rPr>
              <a:t>Pahare ule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Text Box 34"/>
          <p:cNvSpPr/>
          <p:nvPr/>
        </p:nvSpPr>
        <p:spPr>
          <a:xfrm>
            <a:off x="2195640" y="5445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Verdana"/>
              </a:rPr>
              <a:t>ou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0" name="Picture 12" descr="C:\Users\User\Desktop\tort[2].gif"/>
          <p:cNvPicPr/>
          <p:nvPr/>
        </p:nvPicPr>
        <p:blipFill>
          <a:blip r:embed="rId3"/>
          <a:stretch/>
        </p:blipFill>
        <p:spPr>
          <a:xfrm>
            <a:off x="6357960" y="642960"/>
            <a:ext cx="1533600" cy="1542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C:\Users\User\Desktop\wedding-cake9[1].gif"/>
          <p:cNvPicPr/>
          <p:nvPr/>
        </p:nvPicPr>
        <p:blipFill>
          <a:blip r:embed="rId4"/>
          <a:stretch/>
        </p:blipFill>
        <p:spPr>
          <a:xfrm>
            <a:off x="6286680" y="4857840"/>
            <a:ext cx="1357200" cy="13572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44000" cy="22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eoarece feti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ţa ştie de la mama ei că reţeta este valabilă pentru 4 persoane oare pentru câte a pregătit acum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?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39640" y="240192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Picture 5" descr="C:\Users\User\Desktop\post-31247-1179881473[1].jpg"/>
          <p:cNvPicPr/>
          <p:nvPr/>
        </p:nvPicPr>
        <p:blipFill>
          <a:blip r:embed="rId1"/>
          <a:stretch/>
        </p:blipFill>
        <p:spPr>
          <a:xfrm>
            <a:off x="928800" y="4071960"/>
            <a:ext cx="2227320" cy="1857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C:\Users\User\Desktop\wedding-cake15[1].gif"/>
          <p:cNvPicPr/>
          <p:nvPr/>
        </p:nvPicPr>
        <p:blipFill>
          <a:blip r:embed="rId2"/>
          <a:stretch/>
        </p:blipFill>
        <p:spPr>
          <a:xfrm>
            <a:off x="5643720" y="3929040"/>
            <a:ext cx="2000160" cy="20001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ROVOCAREA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000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e cantit</a:t>
            </a:r>
            <a:r>
              <a:rPr b="0" lang="ro-RO" sz="3200" spc="-1" strike="noStrike">
                <a:solidFill>
                  <a:srgbClr val="ffffff"/>
                </a:solidFill>
                <a:latin typeface="Calibri"/>
              </a:rPr>
              <a:t>ăţ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0" lang="ro-RO" sz="3200" spc="-1" strike="noStrike">
                <a:solidFill>
                  <a:srgbClr val="ffffff"/>
                </a:solidFill>
                <a:latin typeface="Calibri"/>
              </a:rPr>
              <a:t> ar fi fost necesare pentru 16 persoan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 Cum a calcula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 can</a:t>
            </a:r>
            <a:r>
              <a:rPr b="0" lang="ro-RO" sz="3200" spc="-1" strike="noStrike">
                <a:solidFill>
                  <a:srgbClr val="ffffff"/>
                </a:solidFill>
                <a:latin typeface="Calibri"/>
              </a:rPr>
              <a:t>ă zahă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Calibri"/>
              </a:rPr>
              <a:t>2 kg făină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Calibri"/>
              </a:rPr>
              <a:t>4+1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/2pahare ule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2 ou</a:t>
            </a:r>
            <a:r>
              <a:rPr b="0" lang="ro-RO" sz="3200" spc="-1" strike="noStrike">
                <a:solidFill>
                  <a:srgbClr val="ffffff"/>
                </a:solidFill>
                <a:latin typeface="Calibri"/>
              </a:rPr>
              <a:t>ă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Calibri"/>
              </a:rPr>
              <a:t>3 l lap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e ai de f</a:t>
            </a:r>
            <a:r>
              <a:rPr b="0" lang="ro-RO" sz="4400" spc="-1" strike="noStrike">
                <a:solidFill>
                  <a:srgbClr val="ffffff"/>
                </a:solidFill>
                <a:latin typeface="Calibri"/>
              </a:rPr>
              <a:t>ă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ut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Realizeaz</a:t>
            </a:r>
            <a:r>
              <a:rPr b="0" lang="ro-RO" sz="3600" spc="-1" strike="noStrike">
                <a:solidFill>
                  <a:srgbClr val="ffffff"/>
                </a:solidFill>
                <a:latin typeface="Calibri"/>
              </a:rPr>
              <a:t>ă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o prezentare Power Point in care s</a:t>
            </a:r>
            <a:r>
              <a:rPr b="0" lang="ro-RO" sz="3600" spc="-1" strike="noStrike">
                <a:solidFill>
                  <a:srgbClr val="ffffff"/>
                </a:solidFill>
                <a:latin typeface="Calibri"/>
              </a:rPr>
              <a:t>ă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3600" spc="-1" strike="noStrike">
                <a:solidFill>
                  <a:srgbClr val="ffffff"/>
                </a:solidFill>
                <a:latin typeface="Arial"/>
              </a:rPr>
              <a:t>aplic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o-RO" sz="3600" spc="-1" strike="noStrike">
                <a:solidFill>
                  <a:srgbClr val="ffffff"/>
                </a:solidFill>
                <a:latin typeface="Arial"/>
              </a:rPr>
              <a:t> cunoştinţele învăţate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spre frac</a:t>
            </a:r>
            <a:r>
              <a:rPr b="0" lang="ro-RO" sz="36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0" lang="ro-RO" sz="3600" spc="-1" strike="noStrike">
                <a:solidFill>
                  <a:srgbClr val="ffffff"/>
                </a:solidFill>
                <a:latin typeface="Arial"/>
              </a:rPr>
              <a:t> în viaţa de zi cu z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228240" y="11426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abili</a:t>
            </a:r>
            <a:r>
              <a:rPr b="0" lang="ro-RO" sz="3200" spc="-1" strike="noStrike">
                <a:solidFill>
                  <a:srgbClr val="ffffff"/>
                </a:solidFill>
                <a:latin typeface="Calibri"/>
              </a:rPr>
              <a:t>ţ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 impreun</a:t>
            </a:r>
            <a:r>
              <a:rPr b="0" lang="ro-RO" sz="3200" spc="-1" strike="noStrike">
                <a:solidFill>
                  <a:srgbClr val="ffffff"/>
                </a:solidFill>
                <a:latin typeface="Calibri"/>
              </a:rPr>
              <a:t>ă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cu colegii vo</a:t>
            </a:r>
            <a:r>
              <a:rPr b="0" lang="ro-RO" sz="3200" spc="-1" strike="noStrike">
                <a:solidFill>
                  <a:srgbClr val="ffffff"/>
                </a:solidFill>
                <a:latin typeface="Calibri"/>
              </a:rPr>
              <a:t>ş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i o schit</a:t>
            </a:r>
            <a:r>
              <a:rPr b="0" lang="ro-RO" sz="3200" spc="-1" strike="noStrike">
                <a:solidFill>
                  <a:srgbClr val="ffffff"/>
                </a:solidFill>
                <a:latin typeface="Calibri"/>
              </a:rPr>
              <a:t>ă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 prezent</a:t>
            </a:r>
            <a:r>
              <a:rPr b="0" lang="ro-RO" sz="3200" spc="-1" strike="noStrike">
                <a:solidFill>
                  <a:srgbClr val="ffffff"/>
                </a:solidFill>
                <a:latin typeface="Calibri"/>
              </a:rPr>
              <a:t>ă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ii</a:t>
            </a:r>
            <a:r>
              <a:rPr b="0" lang="ro-RO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ace</a:t>
            </a:r>
            <a:r>
              <a:rPr b="0" lang="ro-RO" sz="3200" spc="-1" strike="noStrike">
                <a:solidFill>
                  <a:srgbClr val="ffffff"/>
                </a:solidFill>
                <a:latin typeface="Calibri"/>
              </a:rPr>
              <a:t>ţ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 un inventar al lucrurilor pe care le ave</a:t>
            </a:r>
            <a:r>
              <a:rPr b="0" lang="ro-RO" sz="3200" spc="-1" strike="noStrike">
                <a:solidFill>
                  <a:srgbClr val="ffffff"/>
                </a:solidFill>
                <a:latin typeface="Calibri"/>
              </a:rPr>
              <a:t>ţ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 de f</a:t>
            </a:r>
            <a:r>
              <a:rPr b="0" lang="ro-RO" sz="3200" spc="-1" strike="noStrike">
                <a:solidFill>
                  <a:srgbClr val="ffffff"/>
                </a:solidFill>
                <a:latin typeface="Calibri"/>
              </a:rPr>
              <a:t>ă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ut, repartiza</a:t>
            </a:r>
            <a:r>
              <a:rPr b="0" lang="ro-RO" sz="3200" spc="-1" strike="noStrike">
                <a:solidFill>
                  <a:srgbClr val="ffffff"/>
                </a:solidFill>
                <a:latin typeface="Calibri"/>
              </a:rPr>
              <a:t>ţ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 sarcinile </a:t>
            </a:r>
            <a:r>
              <a:rPr b="0" lang="ro-RO" sz="3200" spc="-1" strike="noStrike">
                <a:solidFill>
                  <a:srgbClr val="ffffff"/>
                </a:solidFill>
                <a:latin typeface="Calibri"/>
              </a:rPr>
              <a:t>ş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 stabil</a:t>
            </a:r>
            <a:r>
              <a:rPr b="0" lang="ro-RO" sz="3200" spc="-1" strike="noStrike">
                <a:solidFill>
                  <a:srgbClr val="ffffff"/>
                </a:solidFill>
                <a:latin typeface="Calibri"/>
              </a:rPr>
              <a:t>ţ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i termene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Termenul de finalizare a prezent</a:t>
            </a:r>
            <a:r>
              <a:rPr b="0" lang="ro-RO" sz="3200" spc="-1" strike="noStrike">
                <a:solidFill>
                  <a:srgbClr val="ffff00"/>
                </a:solidFill>
                <a:latin typeface="Calibri"/>
              </a:rPr>
              <a:t>ă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rii ……ora</a:t>
            </a: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 …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(</a:t>
            </a:r>
            <a:r>
              <a:rPr b="0" lang="en-US" sz="1800" spc="-1" strike="noStrike">
                <a:solidFill>
                  <a:srgbClr val="eeece1"/>
                </a:solidFill>
                <a:latin typeface="Calibri"/>
              </a:rPr>
              <a:t>ai la dispozitie 2 ore in clasa si va recomand 3 ore de lucru acas</a:t>
            </a:r>
            <a:r>
              <a:rPr b="0" lang="ro-RO" sz="1800" spc="-1" strike="noStrike">
                <a:solidFill>
                  <a:srgbClr val="eeece1"/>
                </a:solidFill>
                <a:latin typeface="Calibri"/>
              </a:rPr>
              <a:t>ă</a:t>
            </a:r>
            <a:r>
              <a:rPr b="0" lang="en-US" sz="1800" spc="-1" strike="noStrike">
                <a:solidFill>
                  <a:srgbClr val="eeece1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3429000" y="59436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rmari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 lista de verificare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685800" y="30492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comand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i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33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Verdana"/>
              </a:rPr>
              <a:t>Surse de informar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Text Box 1036"/>
          <p:cNvSpPr/>
          <p:nvPr/>
        </p:nvSpPr>
        <p:spPr>
          <a:xfrm>
            <a:off x="457200" y="1905120"/>
            <a:ext cx="83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ww.didactic.r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ww.descopera.r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ww.wikipedia.r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4T16:47:53Z</dcterms:created>
  <dc:creator>Albert</dc:creator>
  <dc:description/>
  <dc:language>en-US</dc:language>
  <cp:lastModifiedBy>User</cp:lastModifiedBy>
  <dcterms:modified xsi:type="dcterms:W3CDTF">2011-01-26T16:58:36Z</dcterms:modified>
  <cp:revision>36</cp:revision>
  <dc:subject/>
  <dc:title>Vă prezentăm membrii grupei nr. 1</dc:title>
</cp:coreProperties>
</file>